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17120" y="1162080"/>
            <a:ext cx="5575320" cy="313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9096-7EDD-4F2C-86DB-FDEDF647338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7D88-8A7D-4139-967E-8C58B70B3E8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1DFB-96FA-4D6E-91FF-C512524E5BA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4B56-3CC8-41C8-940D-3769A0F13000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FA8A-C93F-442E-B955-C7A6D3963DD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5E7B-D556-470E-8539-0ACCEADCABB8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7357-6F3B-4A5E-BBC6-0205C58E82D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4D45-E710-480D-921E-601A72FE463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9AFB-C301-4BDF-BEC0-0286864DEA1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054D-9329-4DDF-A054-05A45F83DE9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CDA3-8FB0-4FC8-9861-23678DC8F36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D7DD-E6FF-4043-8881-33D11D146BE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EFD-7B71-4CD8-8810-CC72F06D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F64B-4C9E-4786-BC2B-09BBF5EE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50E-29CC-4211-AA32-2ACEDC53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A3E-5204-4704-8AC9-E3101F17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583-176A-40F5-9D58-77105064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DA2-3189-4CBB-9A45-61577097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B93-5ACA-46DA-89AE-435B7924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00F-3994-4497-ACE7-5AD47CD2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ADF-6A3F-4AE0-83F1-70495762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A3A-057D-42C0-B12A-3CBF1280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025-E4A8-4A24-8542-E2BF58C6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8B6E-1040-4BB9-ABBA-0D48349A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7" descr=""/>
          <p:cNvPicPr/>
          <p:nvPr/>
        </p:nvPicPr>
        <p:blipFill>
          <a:blip r:embed="rId2"/>
          <a:stretch/>
        </p:blipFill>
        <p:spPr>
          <a:xfrm>
            <a:off x="7732800" y="6045120"/>
            <a:ext cx="4286160" cy="67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739C-49FD-4E0D-9886-4ED6C0FF857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2" descr=""/>
          <p:cNvPicPr/>
          <p:nvPr/>
        </p:nvPicPr>
        <p:blipFill>
          <a:blip r:embed="rId1"/>
          <a:stretch/>
        </p:blipFill>
        <p:spPr>
          <a:xfrm>
            <a:off x="0" y="-79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0040"/>
            <a:ext cx="804096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SULTADO DO REGIME GERAL DE PREVIDÊNCIA SOCIAL – RGPS 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Retângulo 3"/>
          <p:cNvSpPr/>
          <p:nvPr/>
        </p:nvSpPr>
        <p:spPr>
          <a:xfrm>
            <a:off x="8253360" y="230040"/>
            <a:ext cx="36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20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98360" y="4549680"/>
            <a:ext cx="34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ECRETARIA DE PREVIDÊ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36440" y="195120"/>
            <a:ext cx="11603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de dezembro/2018 (INP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34800" y="638172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m 1" descr=""/>
          <p:cNvPicPr/>
          <p:nvPr/>
        </p:nvPicPr>
        <p:blipFill>
          <a:blip r:embed="rId1"/>
          <a:stretch/>
        </p:blipFill>
        <p:spPr>
          <a:xfrm>
            <a:off x="136440" y="982800"/>
            <a:ext cx="11844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ENDÊNCIAS ARRECADAÇÃO, DESPESA E RESULT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VOLUÇÃO TEMPO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6458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1520" y="15408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umulado de Janeiro a Dezembro (2003 a 2018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B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m 1" descr=""/>
          <p:cNvPicPr/>
          <p:nvPr/>
        </p:nvPicPr>
        <p:blipFill>
          <a:blip r:embed="rId1"/>
          <a:stretch/>
        </p:blipFill>
        <p:spPr>
          <a:xfrm>
            <a:off x="0" y="649440"/>
            <a:ext cx="121921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09480" y="21276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9080" y="6453360"/>
            <a:ext cx="35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agem 1" descr=""/>
          <p:cNvPicPr/>
          <p:nvPr/>
        </p:nvPicPr>
        <p:blipFill>
          <a:blip r:embed="rId1"/>
          <a:stretch/>
        </p:blipFill>
        <p:spPr>
          <a:xfrm>
            <a:off x="19080" y="709560"/>
            <a:ext cx="121442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920" y="643248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ECON de 01/2019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30320" y="85680"/>
            <a:ext cx="10880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m 1" descr=""/>
          <p:cNvPicPr/>
          <p:nvPr/>
        </p:nvPicPr>
        <p:blipFill>
          <a:blip r:embed="rId1"/>
          <a:stretch/>
        </p:blipFill>
        <p:spPr>
          <a:xfrm>
            <a:off x="0" y="857160"/>
            <a:ext cx="12136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222120"/>
            <a:ext cx="10964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09440" y="6175440"/>
            <a:ext cx="663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magem 1" descr=""/>
          <p:cNvPicPr/>
          <p:nvPr/>
        </p:nvPicPr>
        <p:blipFill>
          <a:blip r:embed="rId1"/>
          <a:stretch/>
        </p:blipFill>
        <p:spPr>
          <a:xfrm>
            <a:off x="0" y="898560"/>
            <a:ext cx="121921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27000" y="247680"/>
            <a:ext cx="11950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8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27000" y="6048360"/>
            <a:ext cx="759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–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1. PIB 2018 estimado de acordo com a Grade de Parâmetros da SPE/MECON de 01/2019.   2. De 2009 a 2015, ocorreu superávit na área  urbana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m 1" descr=""/>
          <p:cNvPicPr/>
          <p:nvPr/>
        </p:nvPicPr>
        <p:blipFill>
          <a:blip r:embed="rId1"/>
          <a:stretch/>
        </p:blipFill>
        <p:spPr>
          <a:xfrm>
            <a:off x="27000" y="901800"/>
            <a:ext cx="1204596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3480" y="6426360"/>
            <a:ext cx="556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3480" y="88920"/>
            <a:ext cx="1103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m 1" descr=""/>
          <p:cNvPicPr/>
          <p:nvPr/>
        </p:nvPicPr>
        <p:blipFill>
          <a:blip r:embed="rId1"/>
          <a:stretch/>
        </p:blipFill>
        <p:spPr>
          <a:xfrm>
            <a:off x="33480" y="749160"/>
            <a:ext cx="1203948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64562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ECON de 01/2019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139680"/>
            <a:ext cx="1203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8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m 1" descr=""/>
          <p:cNvPicPr/>
          <p:nvPr/>
        </p:nvPicPr>
        <p:blipFill>
          <a:blip r:embed="rId1"/>
          <a:stretch/>
        </p:blipFill>
        <p:spPr>
          <a:xfrm>
            <a:off x="0" y="860400"/>
            <a:ext cx="1214424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85760"/>
            <a:ext cx="108489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Média móvel de 12 mes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Janeiro/2003 a dezembro/2018)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(INPC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34800" y="6453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magem 1" descr=""/>
          <p:cNvPicPr/>
          <p:nvPr/>
        </p:nvPicPr>
        <p:blipFill>
          <a:blip r:embed="rId1"/>
          <a:stretch/>
        </p:blipFill>
        <p:spPr>
          <a:xfrm>
            <a:off x="0" y="762120"/>
            <a:ext cx="12125160" cy="51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CaixaDeTexto 1"/>
          <p:cNvSpPr/>
          <p:nvPr/>
        </p:nvSpPr>
        <p:spPr>
          <a:xfrm>
            <a:off x="1623600" y="463680"/>
            <a:ext cx="87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articipação do RGPS na despesa primária do governo central – em % do total – 2010 e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Gráfico 4" descr=""/>
          <p:cNvPicPr/>
          <p:nvPr/>
        </p:nvPicPr>
        <p:blipFill>
          <a:blip r:embed="rId1"/>
          <a:stretch/>
        </p:blipFill>
        <p:spPr>
          <a:xfrm>
            <a:off x="2066760" y="828720"/>
            <a:ext cx="8163000" cy="4790880"/>
          </a:xfrm>
          <a:prstGeom prst="rect">
            <a:avLst/>
          </a:prstGeom>
          <a:ln w="0">
            <a:noFill/>
          </a:ln>
        </p:spPr>
      </p:pic>
      <p:sp>
        <p:nvSpPr>
          <p:cNvPr id="101" name="Retângulo 2"/>
          <p:cNvSpPr/>
          <p:nvPr/>
        </p:nvSpPr>
        <p:spPr>
          <a:xfrm>
            <a:off x="1940040" y="5707080"/>
            <a:ext cx="609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/Elaboração: SPREV/MEC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7520" y="147600"/>
            <a:ext cx="9624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Dez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/2017, Nov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/2018 e Dezembro/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7520" y="5987880"/>
            <a:ext cx="8058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magem 1" descr=""/>
          <p:cNvPicPr/>
          <p:nvPr/>
        </p:nvPicPr>
        <p:blipFill>
          <a:blip r:embed="rId1"/>
          <a:stretch/>
        </p:blipFill>
        <p:spPr>
          <a:xfrm>
            <a:off x="0" y="507960"/>
            <a:ext cx="1195236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138240"/>
            <a:ext cx="11499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1998 e 2018 (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0" y="5996160"/>
            <a:ext cx="78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Imagem 1" descr=""/>
          <p:cNvPicPr/>
          <p:nvPr/>
        </p:nvPicPr>
        <p:blipFill>
          <a:blip r:embed="rId1"/>
          <a:stretch/>
        </p:blipFill>
        <p:spPr>
          <a:xfrm>
            <a:off x="47520" y="614520"/>
            <a:ext cx="1188108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680" y="563400"/>
            <a:ext cx="1204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08 e dezembro de 2018, a quantidade de benefícios previdenciários e acidentários emitidos pela Previdência aumentou 32,9%, passando de 22,8 milhões para 30,3 milhõ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680" y="203040"/>
            <a:ext cx="1112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ed7d31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m milhões de benefícios - 2008 a 2018 (dezembr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680" y="6059520"/>
            <a:ext cx="779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agem 1" descr=""/>
          <p:cNvPicPr/>
          <p:nvPr/>
        </p:nvPicPr>
        <p:blipFill>
          <a:blip r:embed="rId1"/>
          <a:stretch/>
        </p:blipFill>
        <p:spPr>
          <a:xfrm>
            <a:off x="4680" y="1123920"/>
            <a:ext cx="1213956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992160" y="334800"/>
            <a:ext cx="969804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480" y="136440"/>
            <a:ext cx="9545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/2017, Novembro/2018, Dezembro/2018 e Acumulado no ano (2017 e 201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6149880"/>
            <a:ext cx="662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m 1" descr=""/>
          <p:cNvPicPr/>
          <p:nvPr/>
        </p:nvPicPr>
        <p:blipFill>
          <a:blip r:embed="rId1"/>
          <a:stretch/>
        </p:blipFill>
        <p:spPr>
          <a:xfrm>
            <a:off x="0" y="657360"/>
            <a:ext cx="12185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157320"/>
            <a:ext cx="10642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pela Previdência Social (2010 a 201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cumulado de Janeiro 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 de cada ano ( 2010 a 2018) –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Em milhares de benefíc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7480" y="6099120"/>
            <a:ext cx="6592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m 1" descr=""/>
          <p:cNvPicPr/>
          <p:nvPr/>
        </p:nvPicPr>
        <p:blipFill>
          <a:blip r:embed="rId1"/>
          <a:stretch/>
        </p:blipFill>
        <p:spPr>
          <a:xfrm>
            <a:off x="0" y="757080"/>
            <a:ext cx="1214424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840" y="144360"/>
            <a:ext cx="953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1" descr=""/>
          <p:cNvPicPr/>
          <p:nvPr/>
        </p:nvPicPr>
        <p:blipFill>
          <a:blip r:embed="rId1"/>
          <a:stretch/>
        </p:blipFill>
        <p:spPr>
          <a:xfrm>
            <a:off x="15840" y="907920"/>
            <a:ext cx="1217628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4080" y="130320"/>
            <a:ext cx="938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Dezembro de 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6485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m 1" descr=""/>
          <p:cNvPicPr/>
          <p:nvPr/>
        </p:nvPicPr>
        <p:blipFill>
          <a:blip r:embed="rId1"/>
          <a:stretch/>
        </p:blipFill>
        <p:spPr>
          <a:xfrm>
            <a:off x="0" y="907920"/>
            <a:ext cx="1219212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3240" y="147600"/>
            <a:ext cx="10199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zembro/2017, Novembro e Dezembro de 2018 e Acumulado no ano (2017 e 2018)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milhões nomina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240" y="6481800"/>
            <a:ext cx="30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119160" y="797040"/>
            <a:ext cx="11709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82440" y="125280"/>
            <a:ext cx="11022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 (2017 e 2018) – Em R$ milhões de dezembro/2018 (INPC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0" y="6450120"/>
            <a:ext cx="788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m 1" descr=""/>
          <p:cNvPicPr/>
          <p:nvPr/>
        </p:nvPicPr>
        <p:blipFill>
          <a:blip r:embed="rId1"/>
          <a:stretch/>
        </p:blipFill>
        <p:spPr>
          <a:xfrm>
            <a:off x="0" y="903240"/>
            <a:ext cx="119286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280" y="114480"/>
            <a:ext cx="11572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6080" y="6381720"/>
            <a:ext cx="36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m 1" descr=""/>
          <p:cNvPicPr/>
          <p:nvPr/>
        </p:nvPicPr>
        <p:blipFill>
          <a:blip r:embed="rId1"/>
          <a:stretch/>
        </p:blipFill>
        <p:spPr>
          <a:xfrm>
            <a:off x="125280" y="976320"/>
            <a:ext cx="12045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13:56:17Z</dcterms:created>
  <dc:creator>Jamil Miranda Ghani</dc:creator>
  <dc:description/>
  <dc:language>en-US</dc:language>
  <cp:lastModifiedBy>Silvana do Socorro Machado Rodrigues - MPS</cp:lastModifiedBy>
  <cp:lastPrinted>2019-02-28T11:12:21Z</cp:lastPrinted>
  <dcterms:modified xsi:type="dcterms:W3CDTF">2019-02-28T11:19:36Z</dcterms:modified>
  <cp:revision>28</cp:revision>
  <dc:subject/>
  <dc:title>Apresentação do PowerPoint</dc:title>
</cp:coreProperties>
</file>